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38A-9988-4DC4-9059-AC4890AC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E52-C9EB-4335-8A6F-83955A92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5C7-8D23-4F73-BD64-7C14C0E3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474-7639-497B-A13B-D3402133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3D0D-5F5E-451F-B4B4-002C0667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6BDD-EB80-4A01-B0B7-65AFE713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BDCA-75F2-475B-A4BE-62F7A493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F005-0455-491A-B106-A1E7E1F5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D16B-406D-496E-BDAF-F90B12E0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A20C-4D0E-4D2A-983E-638690B6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4F43-D2DC-4D3B-8E5E-45516A4A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40CB-8CDA-4A00-9640-94F99B1E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DC4A-6B34-4046-BB6D-49490185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E49B-5EFB-41FA-BC30-EE6AE9CB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7534-6619-4D48-A2FA-C34B9DA0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E852-9BAF-4AB2-85BB-055B8D38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43A3-589C-4BD0-BF5B-6F965CEC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289-AB64-4539-9B9C-38E0B471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AB04-3E1F-4CDB-8EC4-C3BBE610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0436-422E-4B94-A87E-46DC9BE7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6D9-2CFD-4567-AB9E-88B3A4F8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4183-0130-451F-8160-394ABABE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6965-034E-4D96-AC42-7E250F2A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CFFC-7C79-4E01-8CC2-B467F768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9CB6-0855-4201-9B70-557A21DD1EF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6BEA-68CE-4D24-9A1A-B0BC0FF3E73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3" name=""/>
          <p:cNvSpPr/>
          <p:nvPr/>
        </p:nvSpPr>
        <p:spPr>
          <a:xfrm>
            <a:off x="3995640" y="0"/>
            <a:ext cx="5148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حنانك يا رب الأكوا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رحتُ منايَ وآمال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لديكَ وكلّ رجائي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18000" y="2133720"/>
            <a:ext cx="556236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أنتَ ملاذي ومآل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ليكَ وفيكَ نج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18000" y="1844640"/>
            <a:ext cx="5562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حنان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ربّ الأكو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ليكَ رفعتُ صل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46360" y="1844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نا إن أحيا فبالإيم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شرِّفُ معنى حي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18000" y="1844640"/>
            <a:ext cx="5562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حنان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ربّ الأكو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ليكَ رفعتُ صل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46360" y="1844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نا إن أحيا فبالإيم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شرِّفُ معنى حي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2084400"/>
            <a:ext cx="489744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سمعتُ نداءَك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جلجِلُ في أعماقي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060640"/>
            <a:ext cx="489744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صدىً يتجاوب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ي قلب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ع النغ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خفّاق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95640" y="1989000"/>
            <a:ext cx="5148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فسرتُ بهَديك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في درب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وبي ظمأ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الـمشتاقِ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لـمنهَلِكَ الصافي العذب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أروّي ب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أمني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618000" y="1844640"/>
            <a:ext cx="5562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حنان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ربّ الأكو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ليكَ رفعتُ صل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46360" y="1844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نا إن أحيا فبالإيم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شرِّفُ معنى حي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63640" y="2133720"/>
            <a:ext cx="556272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روّعني صخبُ البحر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صوتُ قصيف الرعود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2133720"/>
            <a:ext cx="556272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آنسُ منك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ع الفجر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فيضِ الرضى والجود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يا مبدع الكون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َن يدر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بسرِ وجودي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2205000"/>
            <a:ext cx="505908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كم ف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رب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ن سر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آياتٍ مذهلات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618000" y="1844640"/>
            <a:ext cx="5562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حنان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ربّ الأكو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ليكَ رفعتُ صل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46360" y="1844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نا إن أحيا فبالإيم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شرِّفُ معنى حي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إلهي إن أدعو فما لي سواكَ مجيب ندائي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1989000"/>
            <a:ext cx="6300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وحين أنوءُ بأثقالي فلي برضاك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عزائ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01:34Z</dcterms:created>
  <dc:creator>Charbel Azar</dc:creator>
  <dc:description/>
  <dc:language>en-US</dc:language>
  <cp:lastModifiedBy>ف</cp:lastModifiedBy>
  <dcterms:modified xsi:type="dcterms:W3CDTF">2006-11-13T21:30:57Z</dcterms:modified>
  <cp:revision>11</cp:revision>
  <dc:subject/>
  <dc:title>PowerPoint Presentation</dc:title>
</cp:coreProperties>
</file>